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99C4E-1364-497F-B60A-0A8B86474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400B0-174E-42B1-8D87-B874CD918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C9C81-53E5-499A-80B1-C8D4CD0E4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9256B-D606-4187-ACBA-228C6C1A1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A95DB-6AEF-4F10-811B-2BF915E70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57382-FE31-4F63-B3BE-234B676B9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2741A-C98A-4F90-8B25-2AE13D5FB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28CDB-BE6D-4AF6-9C29-98C0F2E34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0F185-160F-49BE-B0B4-231660CFC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9CC0C-259A-48F6-AF0D-3413185C3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CA80F-D76C-4E6D-A71E-88D9D1228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FA5F3-F803-45BB-9224-C8F7144FA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CCBBD-4D3A-4EE1-ABE7-A294D5530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7557C-9038-4DD8-BC1A-FA5DBF983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93506-113D-4938-8274-888CA6712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04B2B-1D5D-43FD-B2D8-B0488288A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41AA0-755E-4DAF-85EF-BBF131553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1325F-4FBF-4973-87E7-7D948E262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B3CA1-307D-4D2D-95EE-562D4631E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E859E-5444-4E70-A7B2-C2F506DC1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7561A-1BA3-48F8-9B1A-205D059C5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5C146-C414-4629-9E7A-F40001B78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D60E2-A4D7-453F-A9F7-2F8C2D3A4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1F0A-555C-4734-9AC6-3A974B558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E599-7B30-4F92-8288-AC51EB7ADB27}"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704F-D7F4-42D6-BDB1-ED52AA386085}"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Movie/6-12/Session 1 of 3</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shop Titl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udents will share the following aspects of their projec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process of importing video.</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plain what was edited from your movie and why it was cut.</a:t>
            </a:r>
            <a:endParaRPr b="0" lang="en-US" sz="2400" spc="-1" strike="noStrike">
              <a:solidFill>
                <a:srgbClr val="212164"/>
              </a:solidFill>
              <a:latin typeface="Arial"/>
            </a:endParaRPr>
          </a:p>
          <a:p>
            <a:pPr lvl="2" marL="1143000" indent="-228600">
              <a:spcBef>
                <a:spcPts val="601"/>
              </a:spcBef>
              <a:buClr>
                <a:srgbClr val="21216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hat part of this lesson do you feel students in other classes will need the most help with?</a:t>
            </a:r>
            <a:endParaRPr b="0" lang="en-US" sz="2400" spc="-1" strike="noStrike">
              <a:solidFill>
                <a:srgbClr val="212164"/>
              </a:solidFill>
              <a:latin typeface="Arial"/>
            </a:endParaRPr>
          </a:p>
        </p:txBody>
      </p:sp>
      <p:sp>
        <p:nvSpPr>
          <p:cNvPr id="109"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1"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oday we have seen how the choices we make as editors can effect the flow of the story.</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import digital media into iMovie.</a:t>
            </a:r>
            <a:endParaRPr b="0" lang="en-US" sz="2400" spc="-1" strike="noStrike">
              <a:solidFill>
                <a:srgbClr val="212164"/>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267480" indent="-2674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We have learned how to edit digital film in iMovie.</a:t>
            </a:r>
            <a:endParaRPr b="0" lang="en-US" sz="24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674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13"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	</a:t>
            </a:r>
            <a:r>
              <a:rPr b="0" lang="en-US" sz="3200" spc="-1" strike="noStrike">
                <a:solidFill>
                  <a:srgbClr val="212164"/>
                </a:solidFill>
                <a:latin typeface="Lucida Grande"/>
              </a:rPr>
              <a:t>How can we import and edit video footage in iMovie?</a:t>
            </a:r>
            <a:endParaRPr b="0" lang="en-US" sz="32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799"/>
              </a:spcBef>
              <a:buClr>
                <a:srgbClr val="21216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Lucida Grande"/>
              </a:rPr>
              <a:t>How can we use iMovie to tell a story?</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How a director chooses to edit clips effects the way the story is told to the viewer. What choices do we make when selecting scenes? Can we take the footage, edit it, and turn it into a story?</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his lesson will focus on the following skills:</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ing video into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ing video clips in iMovie</a:t>
            </a:r>
            <a:endParaRPr b="0" lang="en-US" sz="2400" spc="-1" strike="noStrike">
              <a:solidFill>
                <a:srgbClr val="212164"/>
              </a:solidFill>
              <a:latin typeface="Arial"/>
            </a:endParaRPr>
          </a:p>
          <a:p>
            <a:pPr lvl="1" marL="743040" indent="-28584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ing an iMovie project</a:t>
            </a:r>
            <a:endParaRPr b="0" lang="en-US" sz="2400" spc="-1" strike="noStrike">
              <a:solidFill>
                <a:srgbClr val="212164"/>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What are some of the sources of digital video?</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video camera</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Online download (United Streaming)</a:t>
            </a:r>
            <a:endParaRPr b="0" lang="en-US" sz="2400" spc="-1" strike="noStrike">
              <a:solidFill>
                <a:srgbClr val="212164"/>
              </a:solidFill>
              <a:latin typeface="Arial"/>
            </a:endParaRPr>
          </a:p>
          <a:p>
            <a:pPr lvl="1" marL="743040" indent="-285840">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DVD</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s skill will focus on:</a:t>
            </a:r>
            <a:endParaRPr b="0" lang="en-US" sz="3200" spc="-1" strike="noStrike">
              <a:solidFill>
                <a:srgbClr val="212164"/>
              </a:solidFill>
              <a:latin typeface="Arial"/>
            </a:endParaRPr>
          </a:p>
          <a:p>
            <a:pPr lvl="1" marL="743040" indent="-285840">
              <a:spcBef>
                <a:spcPts val="700"/>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r>
              <a:rPr b="0" lang="en-US" sz="2800" spc="-1" strike="noStrike">
                <a:solidFill>
                  <a:srgbClr val="212164"/>
                </a:solidFill>
                <a:latin typeface="Arial"/>
              </a:rPr>
              <a:t>importing digital video into iMovie.</a:t>
            </a:r>
            <a:endParaRPr b="0" lang="en-US" sz="2800" spc="-1" strike="noStrike">
              <a:solidFill>
                <a:srgbClr val="212164"/>
              </a:solidFill>
              <a:latin typeface="Arial"/>
            </a:endParaRPr>
          </a:p>
          <a:p>
            <a:pPr lvl="1" marL="743040" indent="-285840">
              <a:spcBef>
                <a:spcPts val="700"/>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r>
              <a:rPr b="0" lang="en-US" sz="2800" spc="-1" strike="noStrike">
                <a:solidFill>
                  <a:srgbClr val="212164"/>
                </a:solidFill>
                <a:latin typeface="Arial"/>
              </a:rPr>
              <a:t>editing digital video (trim clips, split clips, and add clips to the timeline)</a:t>
            </a:r>
            <a:endParaRPr b="0" lang="en-US" sz="2800" spc="-1" strike="noStrike">
              <a:solidFill>
                <a:srgbClr val="21216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Take the next 30 minutes to import video and begin editing your footage. Then we will come back together and share.</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164"/>
                </a:solidFill>
                <a:latin typeface="Arial"/>
              </a:rPr>
              <a:t>Participant Activity</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mport video into iMovie.</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rag clips into the Timeline and place them in order.</a:t>
            </a:r>
            <a:endParaRPr b="0" lang="en-US" sz="2400" spc="-1" strike="noStrike">
              <a:solidFill>
                <a:srgbClr val="212164"/>
              </a:solidFill>
              <a:latin typeface="Arial"/>
            </a:endParaRPr>
          </a:p>
          <a:p>
            <a:pPr marL="343080" indent="-34308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dit clips using the Crop and Split Clip at Playhead feature.</a:t>
            </a:r>
            <a:endParaRPr b="0" lang="en-US" sz="2400" spc="-1" strike="noStrike">
              <a:solidFill>
                <a:srgbClr val="212164"/>
              </a:solidFill>
              <a:latin typeface="Arial"/>
            </a:endParaRPr>
          </a:p>
          <a:p>
            <a:pPr marL="343080" indent="-343080">
              <a:lnSpc>
                <a:spcPct val="90000"/>
              </a:lnSpc>
              <a:spcBef>
                <a:spcPts val="601"/>
              </a:spcBef>
              <a:spcAft>
                <a:spcPts val="1599"/>
              </a:spcAft>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ve the iMovie project.</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 DOE</cp:lastModifiedBy>
  <dcterms:modified xsi:type="dcterms:W3CDTF">2007-02-24T13:50:57Z</dcterms:modified>
  <cp:revision>29</cp:revision>
  <dc:subject/>
  <dc:title>Workshop Title</dc:title>
</cp:coreProperties>
</file>